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D9C-382F-4706-961B-3FF6D50A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CD1-7B30-422A-B634-1A4B3A4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94A-1008-4B09-A439-B3EFE0B6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D06-70DC-4044-B870-6723A804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E91-28FA-4F2A-8B1C-80FD938A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811B-E836-4A85-8BB4-4B849797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17EA-DA35-4B8C-BCF8-F222ADE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2471-5E2D-4F94-8D10-3BFB0350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7E55-62A3-4EB9-B96C-2D87B6F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6298-5078-40E1-B4BA-50F4DE52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D886-C474-4D44-824C-23317B3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957-39B0-47A9-AD94-F85CEEEA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F9FC-BD51-43D1-88D5-7ECB720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E865-55A9-49BF-8B3E-F1ACF1C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20C7-FCC0-49EC-9604-64F53123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7B8C-1CAB-471C-9BB6-0510A9DB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3723-9712-4FBD-8119-14FD1D03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EC1-69EE-45E7-9A02-C8C61400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00C-E8AC-436A-85E3-41E2B2B8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FC9-B682-4510-8A3D-A182B9CF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1F2-AB02-422B-9230-72D22D4B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42F-79CD-490D-BB6A-7EC4D5CC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447-EDA3-4B47-9A7C-98F6BB0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18B-FD34-4337-9BDC-E4C17D2A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A64E-258B-4451-AD8B-74E96C9267D0}" type="slidenum">
              <a:rPr b="0" lang="ar-Q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0732-47DE-45F5-AEFF-6371455038DC}" type="slidenum">
              <a:rPr b="0" lang="ar-Q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ogpile.com/" TargetMode="External"/><Relationship Id="rId2" Type="http://schemas.openxmlformats.org/officeDocument/2006/relationships/hyperlink" Target="http://www.catcisearch.com/" TargetMode="External"/><Relationship Id="rId3" Type="http://schemas.openxmlformats.org/officeDocument/2006/relationships/hyperlink" Target="http://www.searchenginecolossus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i.org/" TargetMode="External"/><Relationship Id="rId2" Type="http://schemas.openxmlformats.org/officeDocument/2006/relationships/hyperlink" Target="http://bubl.ac.uk/" TargetMode="External"/><Relationship Id="rId3" Type="http://schemas.openxmlformats.org/officeDocument/2006/relationships/hyperlink" Target="http://directory.google.com/" TargetMode="External"/><Relationship Id="rId4" Type="http://schemas.openxmlformats.org/officeDocument/2006/relationships/hyperlink" Target="http://directory.google.com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The Nature of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ing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ng, and us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71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Key Word Search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71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Question Searrches http://www.answers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71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Advanced 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* A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* 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* “quotatio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ethods of Research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Water conservation projects in Qatar. Do three searches and compare the resul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to evaluate web sources?</a:t>
            </a: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here is no quality contro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ebsites are often not update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earch engines do not distinguish between good and bad Websit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eb Evaluation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Before you click on the link to view the page: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ook at the UR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heck the domain na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s it published by a group that makes sense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eb Evaluation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When you go to a Websit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n you tell who wrote it or who created the Website?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n you find evidence of the authority or credentials of the author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ow current is the Website?  Has the information been update? Does the author use links or footnotes to document the information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o the links work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f the Website contains links to other resources, are the links biased or slanted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iting Your Sourc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iting the sources it shows other people how to find the same information that you fou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cite a source on the Web, you need to have the following inform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name of the Website and auth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day you found th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eb address or UR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copyright date for the Web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iting Your Sourc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en.wikipedia.org/wiki/History_of_Qa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hor:  There is no specific author lis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tle:  Wikipedia Encyclopaedia, History of Qa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b address: http://en.wikipedia.org/wiki/History_of_Qa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pyright date:  14 Decembe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e found:  3 January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ssessmen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assessment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ke a Safari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Do activity sheet 4 as ho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dentify major search 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lect a search tool best suited to their purpo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duct effective searches using a variety of techniq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ritically evaluate Websites and information found on th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ite Internet sources that are used in a research report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the sources of informat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de9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ks vs. Intern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ink of ways the Internet and Books are alike and ways they are differ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- Search eng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bject Indexes and Direc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3- Online Libr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4- Encyclopaed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 Search Eng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41144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, Yahoo, M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arch engine is a program that allows you to search the internet fo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etasearch engine is a search engine that searches other search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dogpi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catcisear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search eng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searchenginecolossu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330066"/>
                </a:solidFill>
                <a:latin typeface="Arial"/>
              </a:rPr>
              <a:t>2- Subject Indexes and Directori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ory is best used for specialized information on a particular top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ory uses subject tree or subject direc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i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bubl.ac.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directory.googl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http://dir.yahoo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3- Online Librari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w York Public Library’s Student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kids.nypl.org/internet/reference.cf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ston Public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search3.webfeat.org/bostonsearch.asp?cat=db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4- Encyclopaedi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nline encyclopaedia is useful to search for a brief explanation or an introduction to a top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ikipedi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ww.britannica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ww.encarta.msn.co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7:39:21Z</dcterms:created>
  <dc:creator>user</dc:creator>
  <dc:description/>
  <dc:language>en-US</dc:language>
  <cp:lastModifiedBy>Fatam</cp:lastModifiedBy>
  <dcterms:modified xsi:type="dcterms:W3CDTF">2008-03-09T17:26:06Z</dcterms:modified>
  <cp:revision>31</cp:revision>
  <dc:subject/>
  <dc:title>Course: Foundamentals of Research</dc:title>
</cp:coreProperties>
</file>